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18E-9852-483B-8D72-D5A0AB98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18E-DBA3-433A-8A73-DC6E838F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C41-A786-482D-B0E8-A2B9E918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FC4-C30D-434C-8DF6-68F15CBD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878C-C35B-409A-96E0-B0F8D75B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3524-1A10-4931-8986-8700F4A0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FCA4-32BE-499A-BB0E-85FD9D3E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EF55-8F14-40A2-89C6-CB46A2A6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8D46-0B58-4805-86DC-7E3C4C3F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A68C-8AC6-474E-B51B-480D7F3B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94C5-657D-4C92-B57B-AB9EC9A6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026-7DCB-44D3-862E-9836EBD8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0C05-4AB1-42D6-9B08-70A19195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961F-AC5E-4728-BBD7-81B57496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772F-C2EC-4D39-883E-0A10A311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667A-F3FF-459B-B33F-0B1FF0DD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CD81-694F-4CC6-9E79-F09E8D94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20488-78BE-4C7B-A89C-17B271D2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C6DA9-5C31-4207-9DC0-F7B36B6D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07A7-1AF0-407A-813F-79A409FA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26744-8A6E-4F3B-9FA8-5C87E89A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523BB-5A0E-4D8D-89FD-D10D248A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48A-C11B-46B2-8E32-A27E27E8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24DA-EB7F-48EC-A1FA-905A6D11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77860-157D-4879-A9A6-87C94E3E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8E5A-F6DF-425A-871D-985B2C3C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B051E-037A-4A5F-98ED-88E50AB6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BE3BB-C1E5-4F19-90DD-84B73A59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92D40-74A5-4349-9D9B-B8E69778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D15AA-741A-46F6-8A4F-8892FFAF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3C185-5F60-425F-BCA2-51A47DD5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F4801-2766-4117-9E4A-95CFBA03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5670E-9795-49FF-9BEE-C16872FA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E56-0EB0-4555-B7DE-7872AFC4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0075C-67ED-4456-8221-49C4C0CE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7ED14-B61F-495A-920B-2BE6CC7E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03B82-4058-47B4-8095-AEF54096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B9236-B2BD-45C1-99F0-24250C18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6DF20-C269-426B-AF95-312ABB11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61568-3839-4C05-99AE-692BFB3A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395DF-CFFA-45DA-9ECE-131116ED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DB411-949F-43D9-98CE-34FFDECB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ABAD9-E721-48CD-95A0-2ADCC879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4A9E-9C94-43DD-95B5-CC7565BF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AD7-D3C6-4874-B926-09A9BEFC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F49-BE93-4DC0-B2C3-BE5D65E6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B37-74C9-4988-8097-EE4A7CBC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16B-23FF-41E9-9CE0-A17C6F18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D716-FBDF-4E0A-82FF-160A64D3AC4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833C-F1AE-4A0E-AC22-A82C1EF780D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1157-8E6E-4FC3-A068-A1E69BC6925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DEB2-DAF2-4FAD-94DE-944569D0645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opic 2.9 – Photosynthesis</a:t>
            </a:r>
            <a:br>
              <a:rPr sz="3600"/>
            </a:b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Understanding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7600" y="20574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otosynthesis is the production of carbon compounds in cells using light energ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sible light has a range of wavelengths with violet the shortest wavelength and red the longes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hlorophyll absorbs red and blue light most effectively and reflects green light more than other colour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xygen is produced in photosynthesis from the photolysis of wat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ergy is needed to produce carbohydrates and other carbon compounds from carbon dioxid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mperature, light intensity and carbon dioxide concentration are possible limiting factors on the rate of photosynthesi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http://a.files.bbci.co.uk/bam/live/content/zr9h34j/large"/>
          <p:cNvPicPr/>
          <p:nvPr/>
        </p:nvPicPr>
        <p:blipFill>
          <a:blip r:embed="rId1"/>
          <a:stretch/>
        </p:blipFill>
        <p:spPr>
          <a:xfrm>
            <a:off x="1219320" y="2438280"/>
            <a:ext cx="5616360" cy="42483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90c226"/>
                </a:solidFill>
                <a:latin typeface="Trebuchet MS"/>
              </a:rPr>
              <a:t>Chlorophyll is green a green pigment, reflects green. When sunlight hits the chlorophyll red and blue are absorbed and used for photosynthesis. 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Photosynthesis occurs in 2 stag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Light dependen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Light independ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"/>
          <p:cNvPicPr/>
          <p:nvPr/>
        </p:nvPicPr>
        <p:blipFill>
          <a:blip r:embed="rId1"/>
          <a:srcRect l="26576" t="36462" r="27746" b="26043"/>
          <a:stretch/>
        </p:blipFill>
        <p:spPr>
          <a:xfrm>
            <a:off x="1523880" y="2286000"/>
            <a:ext cx="5943600" cy="2743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ight Dependent Rea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Light Dependen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First stage, depends on lig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Chlorophyll, and other pigments abosrd light and convert it to chemical energy, AT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The light energy is also used for photolysis, the splitting of water into H and 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0 is released as was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H and ATP are the useful produc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Stage 2: Light Independen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The ATP and H from stage one (light independent) are used as energy to convert CO2 and H20 into useful molecules for the pla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Glucose FIX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Picture 2" descr="Image result for photosynthesis equation"/>
          <p:cNvPicPr/>
          <p:nvPr/>
        </p:nvPicPr>
        <p:blipFill>
          <a:blip r:embed="rId1"/>
          <a:stretch/>
        </p:blipFill>
        <p:spPr>
          <a:xfrm>
            <a:off x="609480" y="3733920"/>
            <a:ext cx="749628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FIX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When inorganic elements are binded to form organic compoun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Requires energy to ‘FIX’ the produc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Photosynthesis results in glucose but the energy produced in stage one LI reactions is used to ‘FIX’ many organic molecules for the pla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Photosynthesis versus cell respir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Picture 2" descr="Image result for photosynthesis equation"/>
          <p:cNvPicPr/>
          <p:nvPr/>
        </p:nvPicPr>
        <p:blipFill>
          <a:blip r:embed="rId1"/>
          <a:stretch/>
        </p:blipFill>
        <p:spPr>
          <a:xfrm>
            <a:off x="838080" y="2031840"/>
            <a:ext cx="6348600" cy="1743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http://study.com/cimages/multimages/16/respiration_formula.png"/>
          <p:cNvPicPr/>
          <p:nvPr/>
        </p:nvPicPr>
        <p:blipFill>
          <a:blip r:embed="rId2"/>
          <a:stretch/>
        </p:blipFill>
        <p:spPr>
          <a:xfrm>
            <a:off x="1262160" y="3876840"/>
            <a:ext cx="57211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Cell respiration runs at a fairly consistent rate in plants and is lower than that for mammals, why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8" name="Content Placeholder 4" descr="http://study.com/cimages/multimages/16/respiration_formula.png"/>
          <p:cNvPicPr/>
          <p:nvPr/>
        </p:nvPicPr>
        <p:blipFill>
          <a:blip r:embed="rId1"/>
          <a:stretch/>
        </p:blipFill>
        <p:spPr>
          <a:xfrm>
            <a:off x="1600200" y="3505320"/>
            <a:ext cx="564984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Rate of photosynthesis is not consistent, why? Why it it showing the plant taking in o2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0" name="Content Placeholder 3" descr=""/>
          <p:cNvPicPr/>
          <p:nvPr/>
        </p:nvPicPr>
        <p:blipFill>
          <a:blip r:embed="rId1"/>
          <a:srcRect l="34949" t="37575" r="6376" b="24017"/>
          <a:stretch/>
        </p:blipFill>
        <p:spPr>
          <a:xfrm>
            <a:off x="380880" y="3200400"/>
            <a:ext cx="8277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Measuring 02 is considered a direct measurement of photosynthesis, as long as a correction is made for cellular respiratio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2" name="Content Placeholder 3" descr=""/>
          <p:cNvPicPr/>
          <p:nvPr/>
        </p:nvPicPr>
        <p:blipFill>
          <a:blip r:embed="rId1"/>
          <a:srcRect l="34949" t="37575" r="6376" b="24017"/>
          <a:stretch/>
        </p:blipFill>
        <p:spPr>
          <a:xfrm>
            <a:off x="762120" y="3809880"/>
            <a:ext cx="6348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opic 2.8 – Photosynthesis</a:t>
            </a:r>
            <a:br>
              <a:rPr sz="3600"/>
            </a:b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kills and Ap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7600" y="20574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pplication: Changes to the Earth’s atmosphere, oceans and rock deposition due to photosynthesi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kill: Drawing an absorption spectrum for chlorophyll and an action spectrum for photosynthesi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kill: Design of experiments to investigate the effect of limiting factors on photosynthesi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kill: Separation of photosynthetic pigments by chromatograph (Prac. 4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Environmental factors affecting rate of photosynthesis. 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1. Increasing light intensity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Picture 1" descr=""/>
          <p:cNvPicPr/>
          <p:nvPr/>
        </p:nvPicPr>
        <p:blipFill>
          <a:blip r:embed="rId1"/>
          <a:srcRect l="1392" t="40802" r="60525" b="10418"/>
          <a:stretch/>
        </p:blipFill>
        <p:spPr>
          <a:xfrm>
            <a:off x="1828800" y="3048120"/>
            <a:ext cx="47242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Environmental factors affecting rate of photosynthesis. </a:t>
            </a:r>
            <a:br>
              <a:rPr sz="3200"/>
            </a:b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2. Increasing temperature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rcRect l="36821" t="39227" r="24819" b="10418"/>
          <a:stretch/>
        </p:blipFill>
        <p:spPr>
          <a:xfrm>
            <a:off x="1371600" y="2517840"/>
            <a:ext cx="525780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Environmental factors affecting rate of photosynthesis. </a:t>
            </a:r>
            <a:br>
              <a:rPr sz="3200"/>
            </a:br>
            <a:r>
              <a:rPr b="0" lang="en-CA" sz="3200" spc="-1" strike="noStrike">
                <a:solidFill>
                  <a:srgbClr val="90c226"/>
                </a:solidFill>
                <a:latin typeface="Trebuchet MS"/>
              </a:rPr>
              <a:t>3. Increasing C02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rcRect l="31260" t="12500" r="31963" b="44793"/>
          <a:stretch/>
        </p:blipFill>
        <p:spPr>
          <a:xfrm>
            <a:off x="1800360" y="2590920"/>
            <a:ext cx="51339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Class work/Home Wor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Photosynthesis lab, journal entries due by Monda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Page 111, question 6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rcRect l="31260" t="12500" r="4906" b="44793"/>
          <a:stretch/>
        </p:blipFill>
        <p:spPr>
          <a:xfrm>
            <a:off x="2133720" y="4278240"/>
            <a:ext cx="6858000" cy="2579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" descr=""/>
          <p:cNvPicPr/>
          <p:nvPr/>
        </p:nvPicPr>
        <p:blipFill>
          <a:blip r:embed="rId2"/>
          <a:srcRect l="1392" t="16668" r="24819" b="10418"/>
          <a:stretch/>
        </p:blipFill>
        <p:spPr>
          <a:xfrm>
            <a:off x="304920" y="76320"/>
            <a:ext cx="7954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252360"/>
            <a:ext cx="8528040" cy="9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nergy Flow Through Ecosystem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1680" y="1752480"/>
            <a:ext cx="41940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ergy enters ecosystems mainly through 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photosynthes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energy stored in the chemical bonds of sugar molecul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roduce food using nonliving nutrients and sunligh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Trebuchet MS"/>
              </a:rPr>
              <a:t>Autotrophs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: have the ability to make their own organic molecul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PHOTOSYNTHESIS – uses light energy and inorganic molecules to produce organic molecu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CHEMOSYNTHESIS – uses inorganic molecules such as hydrogen sulfide to produce organic molecules (instead of sunlight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1"/>
          <a:stretch/>
        </p:blipFill>
        <p:spPr>
          <a:xfrm>
            <a:off x="4575240" y="1336680"/>
            <a:ext cx="3997440" cy="481176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4"/>
          <p:cNvGrpSpPr/>
          <p:nvPr/>
        </p:nvGrpSpPr>
        <p:grpSpPr>
          <a:xfrm>
            <a:off x="4572000" y="1930320"/>
            <a:ext cx="3990600" cy="3764160"/>
            <a:chOff x="4572000" y="1930320"/>
            <a:chExt cx="3990600" cy="3764160"/>
          </a:xfrm>
        </p:grpSpPr>
        <p:sp>
          <p:nvSpPr>
            <p:cNvPr id="269" name="Rectangle 8"/>
            <p:cNvSpPr/>
            <p:nvPr/>
          </p:nvSpPr>
          <p:spPr>
            <a:xfrm>
              <a:off x="7103160" y="2867040"/>
              <a:ext cx="775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gar i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nthesize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d used i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t tiss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"/>
            <p:cNvSpPr/>
            <p:nvPr/>
          </p:nvSpPr>
          <p:spPr>
            <a:xfrm>
              <a:off x="8091000" y="2859120"/>
              <a:ext cx="4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ssues,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0"/>
            <p:cNvSpPr/>
            <p:nvPr/>
          </p:nvSpPr>
          <p:spPr>
            <a:xfrm>
              <a:off x="5706720" y="1930320"/>
              <a:ext cx="569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 i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ture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om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nlig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4572000" y="2938320"/>
              <a:ext cx="922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rbon dioxid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s absorbe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om the a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6977160" y="1938240"/>
              <a:ext cx="605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xygen i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leas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3"/>
            <p:cNvSpPr/>
            <p:nvPr/>
          </p:nvSpPr>
          <p:spPr>
            <a:xfrm>
              <a:off x="4637880" y="4911840"/>
              <a:ext cx="1233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ater is absorbe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om soil, used i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hotosynthesis, an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ored in cel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6797520" y="5085000"/>
              <a:ext cx="1632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organic mineral nutrient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nitrate, phosphate) ar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bsorbed from soil an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ed in plant tiss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5778000" y="3073320"/>
              <a:ext cx="90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photosynth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"/>
          <p:cNvPicPr/>
          <p:nvPr/>
        </p:nvPicPr>
        <p:blipFill>
          <a:blip r:embed="rId1"/>
          <a:srcRect l="0" t="12536" r="0" b="0"/>
          <a:stretch/>
        </p:blipFill>
        <p:spPr>
          <a:xfrm>
            <a:off x="439560" y="949320"/>
            <a:ext cx="8263080" cy="51832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1"/>
          <p:cNvSpPr/>
          <p:nvPr/>
        </p:nvSpPr>
        <p:spPr>
          <a:xfrm>
            <a:off x="6651720" y="1438200"/>
            <a:ext cx="29340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O</a:t>
            </a:r>
            <a:r>
              <a:rPr b="1" lang="en-US" sz="2100" spc="-1" strike="noStrike" baseline="-25000">
                <a:solidFill>
                  <a:srgbClr val="231f2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5435640" y="1069920"/>
            <a:ext cx="48528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CO</a:t>
            </a:r>
            <a:r>
              <a:rPr b="1" lang="en-US" sz="2100" spc="-1" strike="noStrike" baseline="-25000">
                <a:solidFill>
                  <a:srgbClr val="231f2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762120" y="4848120"/>
            <a:ext cx="48528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H</a:t>
            </a:r>
            <a:r>
              <a:rPr b="1" lang="en-US" sz="2100" spc="-1" strike="noStrike" baseline="-25000">
                <a:solidFill>
                  <a:srgbClr val="231f2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4133520" y="401652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sug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3692880" y="4835520"/>
            <a:ext cx="162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plant tiss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916200" y="5464080"/>
            <a:ext cx="1140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o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nutri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3022920" y="847800"/>
            <a:ext cx="1561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energ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fr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sunligh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3563280" y="313056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photosynthes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2040" y="31752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hotosynthes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7315200" y="6181560"/>
            <a:ext cx="16765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. 28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"/>
          <p:cNvPicPr/>
          <p:nvPr/>
        </p:nvPicPr>
        <p:blipFill>
          <a:blip r:embed="rId1"/>
          <a:srcRect l="29868" t="18750" r="19180" b="35418"/>
          <a:stretch/>
        </p:blipFill>
        <p:spPr>
          <a:xfrm>
            <a:off x="533520" y="2666880"/>
            <a:ext cx="6629400" cy="33530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lectromagnetic Spectru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ight Independent Rea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6CO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Trebuchet MS"/>
              </a:rPr>
              <a:t>2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+  6H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O  =&gt; C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Trebuchet MS"/>
              </a:rPr>
              <a:t>6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Trebuchet MS"/>
              </a:rPr>
              <a:t>12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Trebuchet MS"/>
              </a:rPr>
              <a:t>6   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+ 6O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The process of photosynthesis converts light energy to chemical energy, which can be used by organisms for different metabolic process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Most common form is gluc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How does the plant do it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" descr=""/>
          <p:cNvPicPr/>
          <p:nvPr/>
        </p:nvPicPr>
        <p:blipFill>
          <a:blip r:embed="rId1"/>
          <a:srcRect l="21302" t="13543" r="21889" b="8332"/>
          <a:stretch/>
        </p:blipFill>
        <p:spPr>
          <a:xfrm>
            <a:off x="152280" y="3049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1"/>
          <a:srcRect l="31847" t="16668" r="13688" b="14587"/>
          <a:stretch/>
        </p:blipFill>
        <p:spPr>
          <a:xfrm>
            <a:off x="457200" y="6094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"/>
          <p:cNvPicPr/>
          <p:nvPr/>
        </p:nvPicPr>
        <p:blipFill>
          <a:blip r:embed="rId1"/>
          <a:srcRect l="22475" t="34375" r="21302" b="23957"/>
          <a:stretch/>
        </p:blipFill>
        <p:spPr>
          <a:xfrm>
            <a:off x="380880" y="1447920"/>
            <a:ext cx="73152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Green, why gre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Green, why gre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The energy factory of the plant cell is the chloroplas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Plants contain a variety of pigments in these chloroplast but are mainly dominated by chlorophyll (gre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Plants use the same part of the electromagnetic spectrum as we do, we can process colors in this range, plants absorb energy between these wavelength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In general, substances can do one of two things when they are struck by a particular wavelength (color) of lig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Absorb that waveleng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1600" spc="-1" strike="noStrike">
                <a:solidFill>
                  <a:srgbClr val="404040"/>
                </a:solidFill>
                <a:latin typeface="Trebuchet MS"/>
              </a:rPr>
              <a:t>Energy of the wavelength is absorbed and can be use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Reflect that waveleng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1600" spc="-1" strike="noStrike">
                <a:solidFill>
                  <a:srgbClr val="404040"/>
                </a:solidFill>
                <a:latin typeface="Trebuchet MS"/>
              </a:rPr>
              <a:t>Energy of wavelength is not absorbed and you will see that reflected colo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Why is this shirt red and white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://streetwearmuse.com/image/cache/data/AAPE/Tshirts/aape-stripe-camo-pocket-t-shirt-red-white-2-900x900.jpg"/>
          <p:cNvPicPr/>
          <p:nvPr/>
        </p:nvPicPr>
        <p:blipFill>
          <a:blip r:embed="rId1"/>
          <a:stretch/>
        </p:blipFill>
        <p:spPr>
          <a:xfrm>
            <a:off x="1843200" y="2160720"/>
            <a:ext cx="388116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Why is this shirt red and white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Picture 2" descr="http://streetwearmuse.com/image/cache/data/AAPE/Tshirts/aape-stripe-camo-pocket-t-shirt-red-white-2-900x900.jpg"/>
          <p:cNvPicPr/>
          <p:nvPr/>
        </p:nvPicPr>
        <p:blipFill>
          <a:blip r:embed="rId1"/>
          <a:stretch/>
        </p:blipFill>
        <p:spPr>
          <a:xfrm>
            <a:off x="5018040" y="2286000"/>
            <a:ext cx="3879720" cy="38815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2"/>
          <p:cNvSpPr/>
          <p:nvPr/>
        </p:nvSpPr>
        <p:spPr>
          <a:xfrm>
            <a:off x="864000" y="2514600"/>
            <a:ext cx="442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unlight is a mix of the wavel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f visible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en sunlight hits the red pigment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shirt, the blue and green are absor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ut the red wavelength is ref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en sunlight hits the white part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hirt, all of the wavelengths are ref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d we process this as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How can we describe this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http://a.files.bbci.co.uk/bam/live/content/zr9h34j/large"/>
          <p:cNvPicPr/>
          <p:nvPr/>
        </p:nvPicPr>
        <p:blipFill>
          <a:blip r:embed="rId1"/>
          <a:stretch/>
        </p:blipFill>
        <p:spPr>
          <a:xfrm>
            <a:off x="990720" y="2273400"/>
            <a:ext cx="60735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23:06:51Z</dcterms:created>
  <dc:creator>Administratr</dc:creator>
  <dc:description/>
  <dc:language>en-US</dc:language>
  <cp:lastModifiedBy>Sean</cp:lastModifiedBy>
  <dcterms:modified xsi:type="dcterms:W3CDTF">2016-09-08T20:55:43Z</dcterms:modified>
  <cp:revision>40</cp:revision>
  <dc:subject/>
  <dc:title>Slide 1</dc:title>
</cp:coreProperties>
</file>